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021E-1D7B-4FB9-8273-B6F91AC8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E686-EB86-42F4-94C0-E8C64243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A62C-84E7-4889-AFA1-1039007B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E4C3-1E49-40F0-BF17-43BEF34D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18B7-DD61-4737-A174-2F24ED6D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7734-7D35-4DA6-A8EE-8F668AB3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9ABD-D08C-48A8-9FF6-DBA73F9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992-A0F9-47B1-ADB9-C8F3DA98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DCF4-743F-4175-9402-71D3FB2A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3C8-9A5A-418E-9812-CA6943C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C36F-B5E3-48F9-8811-105F7C4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161B1-4977-4D9C-8BE3-7C4A9F17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1BF8-B2A3-4DB9-8D5F-CAAEBD0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24F2-1643-44C9-8248-0DBEE50F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F3C-8DDC-4CF0-874C-CBAADA09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8688-CE91-4FAE-8108-3DE18EA9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F48-9722-41DD-8AE2-315EA83B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7198-AF1B-40C0-A720-45595E6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E263-2B17-434C-B243-842AB4C9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4404-D797-4A77-BEB5-E1871E2E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46AD-00DE-4738-A841-442A849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2C86-BDA4-48E7-AB3D-30FED65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45E0-9E7E-46A0-AA39-AF0CF6D7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8714-020B-4412-8424-89C7C6FF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CAEC-DCEA-4818-9B2A-1625DF55A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01D2-D49C-452A-BDAD-6A74206DA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racle Academ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5440" y="487692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2590920"/>
          <a:ext cx="670536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00200" y="2438280"/>
          <a:ext cx="5867280" cy="28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8672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28800" y="2590920"/>
          <a:ext cx="518148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18148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types/Super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981080"/>
          <a:ext cx="480060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004080" y="186516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1120680"/>
            <a:ext cx="367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n a group of instances has special properties, such as attributes or relationships that exist only for that group, or when there is some functionality that applies only to th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xhaustiv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nt acoperite toate cazurile posibile, adica in exemplul nostru, orice publucatie este o cart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o revista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AZ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brosura promotionala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 BROCH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ar pt. a fi siguri ca acoperim toate situatiile sau daca ne gandim ca in viitor vom putea avea si alte produse s-a inclus si subtip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types/Super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981080"/>
          <a:ext cx="480060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004080" y="186516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120680"/>
            <a:ext cx="36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tually 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orice instanta apartine doar unui singur subtip, adica un produs nu poate fi simultan atat carte cat si rev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2004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btine de fapt o partitie a multimii instantelor supertip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SINESS RU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286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i care se pot deduce de pe 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oti profesorii din scoala trebuie sa aiba o diploma de licenta. (=&gt;campul licenta este obligatoriu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AL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i interne ale firmei care nu pot fi “prinse” in ERD. Pentru a asigura respectarea acestor reguli se apeleaya la software. Aceste reguli trebuie sa fie documen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entru a participa la cursul de Programare elevii trebuie sa fi parcurs cursul de Algebra. (se va scrie un program care verifica in baza de date daca elevul a facut acest 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981080"/>
          <a:ext cx="662940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62940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362320" y="1828800"/>
          <a:ext cx="449568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49568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rcRect l="15093" t="30190" r="18867" b="39627"/>
          <a:stretch/>
        </p:blipFill>
        <p:spPr>
          <a:xfrm>
            <a:off x="1600200" y="4038480"/>
            <a:ext cx="6324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362320" y="1828800"/>
          <a:ext cx="449568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49568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rcRect l="15093" t="30190" r="18867" b="39627"/>
          <a:stretch/>
        </p:blipFill>
        <p:spPr>
          <a:xfrm>
            <a:off x="1600200" y="4038480"/>
            <a:ext cx="6324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133720" y="1600200"/>
          <a:ext cx="4647960" cy="23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64796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5093" t="30190" r="18867" b="39627"/>
          <a:stretch/>
        </p:blipFill>
        <p:spPr>
          <a:xfrm>
            <a:off x="1600200" y="3809880"/>
            <a:ext cx="5410080" cy="185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2280" y="5638680"/>
            <a:ext cx="885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transferabilitatea =&gt; valoarea campului AUTHOR_ID din tabela POEMS nu se poate modif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iamondul apare intotdeauna pe partea cu MANY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ED RELATIONSHI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514600"/>
          <a:ext cx="4038840" cy="27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40388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981080"/>
            <a:ext cx="89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ta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der Item-urile vor primi un identificator unic in intreaga tab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rcRect l="9434" t="31135" r="37734" b="21074"/>
          <a:stretch/>
        </p:blipFill>
        <p:spPr>
          <a:xfrm>
            <a:off x="4648320" y="2514600"/>
            <a:ext cx="4038480" cy="2739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9440" y="5257800"/>
            <a:ext cx="89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cest caz fiecare ORDER ITEM este identificat unic doar pr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-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 entitate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ED RELATIONSHI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2286000"/>
          <a:ext cx="4038840" cy="27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40388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752480"/>
            <a:ext cx="89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ta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emurile pot primi un numar de ordine in cadrul unei comenzi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9440" y="4937040"/>
            <a:ext cx="893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cest caz doar id-ul din Entitate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I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 mai este suficient, se observa ca sunt mai multe instante cu acelasi 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 aceea identificatorul unic este compus din Id-ul d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I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euna cu Id-ul comenzii (combinat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+ ORDER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cest tip de UID se marcheaza cu relatie barata in partea entitatii ORDER ITEM (bara inseamna ca "imprumutam" id-ul entitatii din cealalta parte a relati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9434" t="23587" r="33965" b="28621"/>
          <a:stretch/>
        </p:blipFill>
        <p:spPr>
          <a:xfrm>
            <a:off x="4572000" y="2209680"/>
            <a:ext cx="41911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71600" y="2133720"/>
          <a:ext cx="6172200" cy="36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617220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937040" y="1865160"/>
            <a:ext cx="367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 pastreaza optionalitatea relatiilor origi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Each ORD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one or mor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one or more 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DUCT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 on one or more OR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DUCT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 on one or more 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937040" y="1865160"/>
            <a:ext cx="36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 partea entitatii de intersectie (ORDER ITEM) relatiile sunt mandato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ITEM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one and only one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ITEM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or one and only on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937040" y="1865160"/>
            <a:ext cx="36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Relatiile dinspre entitatea de intersectie sunt c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must contain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NE OR MO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DUCT may appear on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NE OR M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937040" y="1865160"/>
            <a:ext cx="36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obicei relatiile dinspre entitatea de intersectie sunt barate, asta insemnand ca un ORDER ITEM este unic identificat prin id-ul ORDER-ului impreuna cu ID-ul PRODUCT-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oate insa decide includerea unei chei artificiale care sa identifice unic fiecare order item si atunci dispar bare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asta varianta este de preferat daca UID-urile entitatilor originate sunt comp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NIREA SHOPPING C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ONESCU GIG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UGH GR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KIA 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OFT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LEPHON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KIA 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05120"/>
          <a:ext cx="8229600" cy="375912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05120"/>
          <a:ext cx="8229600" cy="47307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ddress, name, prof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ame,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ame, address, e-mail, age (date of bir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al_name, stage_name, nation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ame, RGB_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ype,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OR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, year, capacitate_cilind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981080"/>
          <a:ext cx="7238880" cy="28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23888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71600" y="1981080"/>
          <a:ext cx="701028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70102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2:14:55Z</dcterms:created>
  <dc:creator>carmen</dc:creator>
  <dc:description/>
  <dc:language>en-US</dc:language>
  <cp:lastModifiedBy>kome</cp:lastModifiedBy>
  <dcterms:modified xsi:type="dcterms:W3CDTF">2007-09-18T17:36:41Z</dcterms:modified>
  <cp:revision>30</cp:revision>
  <dc:subject/>
  <dc:title>Oracle Academy</dc:title>
</cp:coreProperties>
</file>